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561-0AAC-46BA-80E1-6FC402D4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F16-A073-4CBE-AC23-926AE1BD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A60-2991-484C-8DF2-C352858D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A18-4B4C-4CCA-A35D-5F329E7D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1641-B867-4685-9AF8-076F79A2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0D16-9CA0-49C1-8639-B7574623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CE05-CC95-4DA1-B9A6-4A502ABC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41F2-640D-406B-9ABD-5ED55A96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D22E-B777-4959-8157-2E753ED4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F360-04EC-4922-8AD2-EDB9A68E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10B7-18E1-425C-9D8E-6694E1A7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621-F19A-44DA-A43F-54B8EAC7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943D-E2AF-4B7B-82CD-763A20C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CDEA-42C9-4404-A617-92F7C20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7E74-755B-40AF-B994-B8E18493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E5EC-4599-41E0-964B-EEB70184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899-F906-4B38-8D70-CA445C3C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5BB-C749-4884-BFE7-BE78D304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B59-1E62-4DB3-B03A-F63D6B16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BB2-D8AA-475B-9961-0395C558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C7E-F135-4EF5-8C01-391043D9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42D-336E-4514-9381-EC0EC631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901-EF3C-42E5-B64B-2875CEBB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F47-543D-4636-A16D-D5E105C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DA4D-7DBE-4A90-AAB4-AA094D54C7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80DD-EBC9-4C56-BF40-6108CA9043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yvideotalk.net/" TargetMode="External"/><Relationship Id="rId2" Type="http://schemas.openxmlformats.org/officeDocument/2006/relationships/hyperlink" Target="http://www.webcamsoft.com/en/wmail.html" TargetMode="External"/><Relationship Id="rId3" Type="http://schemas.openxmlformats.org/officeDocument/2006/relationships/hyperlink" Target="http://live.clipstream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ernet4classrooms.com/on-line_powerpoint.htm#download" TargetMode="External"/><Relationship Id="rId2" Type="http://schemas.openxmlformats.org/officeDocument/2006/relationships/hyperlink" Target="http://www.teachnet.com/lesson/misc/winnergame022500.html" TargetMode="External"/><Relationship Id="rId3" Type="http://schemas.openxmlformats.org/officeDocument/2006/relationships/hyperlink" Target="http://www.shambles.net/pages/school/PowerP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gital Video Tips and Techniques for the Classroo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Ann B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brary Media Specialist at Camanche High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or and instructor of the online cou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or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reating Digital Video for Your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act of Visual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 to us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 to use higher order thinking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s decision ma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s creative thin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s collaboration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s and reinforces content knowle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eals to multiple intellig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5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ideo Emai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Video Talk: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myvideotalk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Cam Mail: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webcamsoft.com/en/wmail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pStream: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live.clipstream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werPoint Web Si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PP in the Classroom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internet4classrooms.com/on-line_powerpoint.htm#down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erPoint games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teachnet.com/lesson/misc/winnergame022500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ga Resource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shambles.net/pages/school/PowerP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14600" y="2590920"/>
            <a:ext cx="380988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OCE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quiring Wave Fi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1 Free Sound Effects  www.a1freesoundeffects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aily .Wav  www.dailywav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ways.com www.funways.com(GERMA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ners in Rhyme  www.partnersinrhyme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el Wavs.c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reelwavs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nd America  www.soundamerica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Source.com  www.wavsource.co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ng Mov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51160" y="2940120"/>
            <a:ext cx="2508120" cy="1474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33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39806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30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01:24:02Z</dcterms:created>
  <dc:creator>Preferred Customer</dc:creator>
  <dc:description/>
  <dc:language>en-US</dc:language>
  <cp:lastModifiedBy>Mrs.Duplichan</cp:lastModifiedBy>
  <dcterms:modified xsi:type="dcterms:W3CDTF">2005-07-19T17:50:04Z</dcterms:modified>
  <cp:revision>10</cp:revision>
  <dc:subject/>
  <dc:title>Digital Video Tips and Techniques for the Classroom</dc:title>
</cp:coreProperties>
</file>